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277F-2C96-4583-B366-86C34ACF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hap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741-0D2A-4DF2-A50A-824CC938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C4B-165C-48CF-B163-1D89B436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A31-C3BC-4C61-B3C4-99203B01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C31-6110-4EC4-88C3-8D08780E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414-8DD9-4A07-BAEE-83BA1277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B04-3412-4EA0-BD37-6198E2B3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870-D45C-4305-BD6D-884C30F6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B71-C1EA-4404-A063-9D52288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949-BC53-48BD-B266-9341112A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327-2E0B-425A-9E10-A2E65DC8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FDF-8209-46B6-A213-B6628FE6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B57-1193-452A-ADED-CB7E17EA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CA2C-5290-4C3E-9DE6-CE45F7FA6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eb.mit.edu/invent/iow/reese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10280" y="4952880"/>
            <a:ext cx="2133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bfc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b2dbfc"/>
                </a:solidFill>
                <a:latin typeface="Arial"/>
              </a:rPr>
              <a:t>M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bfc"/>
                </a:solidFill>
                <a:latin typeface="Arial"/>
              </a:rPr>
              <a:t>1-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bfc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dbfc"/>
                </a:solidFill>
                <a:latin typeface="Arial"/>
              </a:rPr>
              <a:t>Computer# 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71800" y="1676520"/>
            <a:ext cx="2362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ese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anut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tter 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ups</a:t>
            </a:r>
            <a:endParaRPr b="0" lang="en-US" sz="1800" spc="1" strike="noStrike">
              <a:ln w="25560">
                <a:solidFill>
                  <a:srgbClr val="00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208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13598" t="41454" r="63240" b="21910"/>
          <a:stretch/>
        </p:blipFill>
        <p:spPr>
          <a:xfrm>
            <a:off x="0" y="4800600"/>
            <a:ext cx="19224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676520" cy="126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Reese"/>
          <p:cNvPicPr/>
          <p:nvPr/>
        </p:nvPicPr>
        <p:blipFill>
          <a:blip r:embed="rId2"/>
          <a:stretch/>
        </p:blipFill>
        <p:spPr>
          <a:xfrm>
            <a:off x="2209680" y="0"/>
            <a:ext cx="533412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Reese"/>
          <p:cNvPicPr/>
          <p:nvPr/>
        </p:nvPicPr>
        <p:blipFill>
          <a:blip r:embed="rId3"/>
          <a:stretch/>
        </p:blipFill>
        <p:spPr>
          <a:xfrm>
            <a:off x="0" y="3352680"/>
            <a:ext cx="2206800" cy="3276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2880" y="4565520"/>
            <a:ext cx="4191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emelsons MIT Program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ff"/>
                </a:solidFill>
                <a:uFillTx/>
                <a:latin typeface="Arial"/>
              </a:rPr>
              <a:t>Reese Peanut Butter Cup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January 11, 2011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eb.mit.edu/invent/iow/rees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2895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Reese’s is a very good chocol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Invention: Reese peanut butter c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The chocolate has a chocolate coating and peanut butter filling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ost people like Reese peanut butter c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ost of the population liked choco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any people like working with Harry Burnett Re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The chocolate was a hit when he made it before h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9c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nventor: Harry Burnett Re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e married and had 16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e was born in Frosty Hill in York 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n Pennsylv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e was 41 when he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e died in the year of 1879-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When he died his father took over until 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und out he was going to die then 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old the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8:31:11Z</dcterms:created>
  <dc:creator>install</dc:creator>
  <dc:description/>
  <dc:language>en-US</dc:language>
  <cp:lastModifiedBy>install</cp:lastModifiedBy>
  <dcterms:modified xsi:type="dcterms:W3CDTF">2011-01-14T17:11:22Z</dcterms:modified>
  <cp:revision>9</cp:revision>
  <dc:subject/>
  <dc:title>Slide 1</dc:title>
</cp:coreProperties>
</file>